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9B63-7109-4CC2-AF0A-966483E1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4D3F-C6FE-469C-B5BE-4A0E60C6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A32A-408A-4D33-B9D1-1C2E8524D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7E10-CE88-4E30-B74E-9214EB31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615C-6073-41A7-8958-B6D5C1B0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3C59-1556-425F-B2AC-B359784A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8B3D-A04F-44E2-A978-497DB92A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1671-459F-40DA-90F8-3E82E04A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1A88-4473-470C-862C-159ED913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838D-3E0F-4F28-89E9-897E1A19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7EAE-F0BB-404E-B78F-06D4C97F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6C6B-E775-4C77-8714-3FD42990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7A53-3D2E-472F-B742-868FCEF7D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63 Pane môj, chcem kresťanom by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 môj, chcem kresťanom byť pravdivým, pravdivý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 môj, chcem kresťanom byť pravdivým, pravdivým, pravdivý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Pane môj, chcem kresťanom byť pravdivý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 môj sám pomôž mi by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vým, láskavý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 môj sám pomôž mi by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vým, láskavým, láskavý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Pane môj sám pomôž mi by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vý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 môj, ja túžim vždy by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primným, úprimný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 môj, ja túžim vždy by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primným, úprimným, úprimný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Pane môj, ja túžim vždy by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primný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 môj, chcem za tebou í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ň čo deň, deň čo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 môj, chcem za tebou í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ň čo deň, deň čo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ň čo deň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Pane môj, chcem za tebou í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ň čo deň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2T11:55:25Z</dcterms:modified>
  <cp:revision>20</cp:revision>
  <dc:subject/>
  <dc:title>Je veľký náš Pán, on slávy je Kráľ Nech do všetkých strán  spev vrúcnych znie chvál.</dc:title>
</cp:coreProperties>
</file>